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7B0B-B288-4E17-B1BE-177A9683D2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FD76-6CFC-4BA8-B58B-EEE19587D67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il.mahidol.ac.th/e-media/electrochemistry/web/pictures/nad.gif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sivabio.50webs.com/plastid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ws.collin.edu/biopage/faculty/mcculloch/1406/outlines/chapter%2010/chap10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D11F-95AF-4EDB-AC6A-1057815929D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73FE-BF0E-4458-92E1-BF88421648F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3EA2-1677-41D3-BBB0-3FB525D991D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358F-E872-4D0F-97C9-0680DFD3C0D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163.16.28.248/bio/activelearner/08/ch8c2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kensieandhuntersproject.blogspot.c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tokresource.org/tok_classes/biobiobio/biomenu/photosynthesi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iws.collin.edu/biopage/faculty/mcculloch/1406/outlines/chapter%2010/chap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1F7-290D-4875-BE1B-C4CCF629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610-04AD-4C99-9B62-93DDC4CE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CA5-0F0B-4C85-8FE6-CCE8106F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BA9-1AFF-477F-A0E1-3681C455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99C-A541-41CA-B3F5-F32DA8D9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9F4-4764-4DF9-B434-D322F98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E60-B643-4428-80FD-53C94C1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8BF-72C7-4FFA-BD92-21DDA7F0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6FB-F633-4E3D-908C-F698984D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815-3FCE-4AC3-BFED-03546DE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CE5-EA02-4F3C-AE37-8C862543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EC0-F112-4486-9E18-023165A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FC95-9F68-4131-AD97-6AC664FF7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hanacademy.org/video/photosynthesis---light-reactions-and-photophosphorylation?playlist=Biology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cell.ndsu.edu/animations/photosynthesis/movie-flash.htm" TargetMode="External"/><Relationship Id="rId2" Type="http://schemas.openxmlformats.org/officeDocument/2006/relationships/hyperlink" Target="http://highered.mcgraw-hill.com/sites/0073383198/student_view0/chapter3/animation_quiz_-_photosynthetic_electron_transport_and_atp_synthesi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ways of Photosynthe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visit the Khan Academ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tic explanation of electron transport in photosynthesis (20 minutes 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hanacademy.org/video/photosynthesis---light-reactions-and-photophosphorylation?playlist=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&amp; NAD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amide adenine dinucleotide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nzyme used in anabolic reactions such as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ectangle 3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1104840" y="1371600"/>
            <a:ext cx="6932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ell movie on Electron Transport Chain in Photosynth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cell.ndsu.edu/animations/photosynthesis/movie-flash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Graw-Hill Ryerson narrated animation &amp; self-quiz…try it!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ighered.mcgraw-hill.com/sites/0073383198/student_view0/chapter3/animation_quiz_-_photosynthetic_electron_transport_and_atp_synthesi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53880" y="69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-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ation of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hotosystem II (chlorophyll P680), which is transferred to primary electron ac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(non-cyclic) electron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osmosis (ATP synthe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766800" y="1600200"/>
            <a:ext cx="761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457200" y="446040"/>
            <a:ext cx="83059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457200" y="1382760"/>
            <a:ext cx="8229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cyclic Electron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3-10-30T17:06:20Z</dcterms:modified>
  <cp:revision>107</cp:revision>
  <dc:subject/>
  <dc:title>Slide 1</dc:title>
</cp:coreProperties>
</file>